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1C0-87C9-46BE-801F-ACF64382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80E-82B9-4953-845B-CF60C310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CC2-2E14-4C39-8CCD-95E9C386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980-454D-4BEF-B44E-CBBF092E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F93-09BC-46EA-959F-F46507B1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DFE-28E3-4BC5-8269-A869A685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44C-CEE7-46A5-8D2B-F2B67F9F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18B-A1C7-46B8-9AD8-8E88C2BE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89E-42B6-4944-9894-34717DAF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A41-29AC-42AC-84E5-725FEF35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B7D-095B-4E0A-AF92-40D8FC13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347-B8A6-4A78-AB5C-7150CCA2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4E6D-42F6-4DDE-900A-46E78FA30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, Ben, and T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: Pyre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Land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ssia has many landforms includ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 seas, 8 mountains ranges, 6 rivers, 6 sets of islands, the Baikal lake, and the Kamchatka Penins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Russian Seas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 seas are plentiful but not the fish within them. Only 2 of the 12 seas supply well fis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l Sea was drying up when Russia still had control of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khotsk and Sea of Japan are the only seas that border Russia with good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952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52280" y="-2087640"/>
            <a:ext cx="16583040" cy="8945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ntain Ra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d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0303"/>
                </a:solidFill>
                <a:latin typeface="Arial"/>
              </a:rPr>
              <a:t>There are many mountains ranges such as Ural, Tanna Ola, Sayan, Yabonovyy, Stanover, Cherskiy, Kolym, and Cauca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d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0303"/>
                </a:solidFill>
                <a:latin typeface="Arial"/>
              </a:rPr>
              <a:t>These mountains make traveling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1600200" y="8915400"/>
            <a:ext cx="16583040" cy="795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152280" y="-1981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3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7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use in using rivers for hydroelectric power, trading or transpor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vers in Russia are the Volga, Irliysh, Ob, Lena, Kenisey, and Am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ngest river in Russia is the Vol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96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296280" cy="7238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islands in Russia are the Fronz Josef Land, Severnaya Zelma, New Siberian islands, Wrangle islands, Kuril islands and Sakhalin is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180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Baikal in even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ke Baik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ggest and oldest lake. Contains the most fresh water out of any l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ed in ice from January to May. Reaches very cold temperatures such as  -6 degrees Fahrenhe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Kamchatka Penins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ome to grizzly bears, reindeer, and wo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re are more than eighty volcanoe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 region is characterized by strong earthquake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for watching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, Lan, Ben, and T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e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2:23:09Z</dcterms:created>
  <dc:creator> </dc:creator>
  <dc:description/>
  <dc:language>en-US</dc:language>
  <cp:lastModifiedBy> </cp:lastModifiedBy>
  <dcterms:modified xsi:type="dcterms:W3CDTF">2010-12-20T15:51:27Z</dcterms:modified>
  <cp:revision>5</cp:revision>
  <dc:subject/>
  <dc:title>Russian Land</dc:title>
</cp:coreProperties>
</file>